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ECE4-1C71-4E81-A1CE-02975DBB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7F79-3733-4AD9-A4A8-9C72C165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EE08-B02F-4ECF-81E5-D5C6531A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92F8-6998-4EFB-9F24-23F8AD90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ADA5-25D7-4BCD-9B54-DFA4229C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BA73-4DDC-4BA4-A523-0546D250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8EFD-2D05-497F-8494-C2E20194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9E15-C291-4AC1-A113-6CACAAFB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2495-4A1B-4F4B-BCED-A6CD1EF2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AD66-81A0-451E-981F-A29A57A6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7402-11FE-46C1-933F-C9464096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8B16-178C-4280-9786-EF62806A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20E2-4449-4C00-82A1-471390BB3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85800" y="762120"/>
            <a:ext cx="8018280" cy="5688000"/>
            <a:chOff x="685800" y="762120"/>
            <a:chExt cx="8018280" cy="56880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990360" y="990720"/>
              <a:ext cx="7620120" cy="52578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3" name=""/>
            <p:cNvGraphicFramePr/>
            <p:nvPr/>
          </p:nvGraphicFramePr>
          <p:xfrm>
            <a:off x="685800" y="762120"/>
            <a:ext cx="8018280" cy="5688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85800" y="762120"/>
                      <a:ext cx="8018280" cy="56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" name=""/>
          <p:cNvSpPr/>
          <p:nvPr/>
        </p:nvSpPr>
        <p:spPr>
          <a:xfrm>
            <a:off x="5638680" y="34290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44680" y="762120"/>
            <a:ext cx="8599320" cy="568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272880" y="585720"/>
            <a:ext cx="8599680" cy="568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272880" y="585720"/>
            <a:ext cx="8599680" cy="568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609480" y="4038480"/>
            <a:ext cx="1676520" cy="2014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ish the world would be drug free and smoking free. It would be no pollu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295280"/>
            <a:ext cx="35053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A CLEANER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86600" y="5562720"/>
            <a:ext cx="7621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5:57:04Z</dcterms:created>
  <dc:creator>Computer Lab</dc:creator>
  <dc:description/>
  <dc:language>en-US</dc:language>
  <cp:lastModifiedBy>Computer Lab</cp:lastModifiedBy>
  <dcterms:modified xsi:type="dcterms:W3CDTF">2009-03-12T15:44:23Z</dcterms:modified>
  <cp:revision>2</cp:revision>
  <dc:subject/>
  <dc:title>Slide 1</dc:title>
</cp:coreProperties>
</file>